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28.gif" ContentType="image/gif"/>
  <Override PartName="/ppt/media/image16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9AD-03BD-46CE-925E-7037CF86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339-9BEA-4C70-85B1-9BB857C2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2B2-A405-4FC9-A19C-7AEFC21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FE0-4ED7-4CD1-A84D-B29BB649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8170-AC95-4F2D-B431-7B147EC8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EB1-DE60-4612-85FF-2ACF0A8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593-6A63-4351-99ED-8A9F6009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1C5-DD3C-4B5A-885A-843906F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9220-BBFD-4B40-B90E-5F51D09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E307-68E9-4C22-9C46-33B8465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481D-C53E-4BC3-A8E6-6E3090F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86F-CB60-48F0-A9FB-0CB0428D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56BA-C662-4822-82AE-5FE5364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3A4D-C1ED-42AC-8C06-39567F7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7D8-6219-402C-B137-33B53358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CC7-8096-4E60-A913-4435ECF8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9E5E-13E4-476A-A835-62C358CC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F3A9-B56D-4121-BC1B-FE684890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8DBD-7FBA-4E2D-9D8F-DA95748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146A-C3DA-42F6-9A47-16AE15C3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B232-8F06-47EE-AD07-C48B486E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7A13-2430-416E-8234-5206718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77C-CA41-42CE-85BD-CFB9458B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E42D-E286-4110-85A3-DDFE3B7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DBAA-FF10-432B-BB9D-C98BC75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52C3-5A54-4AEB-B438-1408DB3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8AAB-C063-4068-9359-38D4F39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6D0C-4A49-4421-91AC-160F66E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619F-32B5-4CD3-B29A-6ED1E6B5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5428-7B5A-4194-8FE8-C2D70D46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F615-4AA5-4FF1-B93F-4A1309E9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CBB2-167F-4AD3-B187-10146AF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10EE-3236-42B7-832F-40C3194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11E-6753-4A0C-A3A1-BE835DE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234F-05CD-46F2-8666-D40594F2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D453-6DD3-4DC0-926A-D3E3C79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90B7-4B72-4AF4-A047-F6FFA74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B7A3-63FC-4DE0-8F6C-1D907B1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CA66-DC07-444A-A27C-19546BA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FC28-58CF-49B1-B8D5-2A96AD5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E281-0039-46DA-8C97-C22C7C5B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0697-851C-4D4A-86E2-941E840A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0470-7BB2-448D-B617-FC93FEBB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665B-97C9-438B-80B2-513C72AA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145-2DB0-4B62-8120-A879F1B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C5CC-90AA-4280-BDB0-97F7261B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8DEF-0301-4E83-8FC1-A8BFD5D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064A-F577-4D2D-AE45-3EC44A9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B099-5653-483A-AC24-CA32D44E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023D-AAC4-4904-9C99-4E80A8A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DAA12-D5E9-4788-B304-20E5BDE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4A87-9151-4BF6-93CD-60F9FBC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ED17-DC8E-4689-A6AD-773EC0C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BD28-A82A-4444-98CD-3206F471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86D8-331E-4375-BB8D-8E3366AA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A9D-5246-4BF4-ACB7-94965B2C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2014-3E03-4BAD-88E7-2D7B7D8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667-0099-4098-B763-5EDA0DD4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203-9543-4812-9976-1BA63CD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74D-2329-4F75-8560-77ED3F4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225-535B-42AC-96E9-7724079780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607E-3B25-477D-A660-4DEE999E96CC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40B8-58F4-4CFB-8078-7D0BDB4B5A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8D62-40CE-4BA2-92B5-B82DC062024C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58F-106C-4790-A9DE-D78606F80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755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元一次不等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42900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时  一元一次不等式的解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331920" y="83664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问题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说出解一元一次不等式的基本步骤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419040" y="3135240"/>
            <a:ext cx="825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问题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第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小题和第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小题的解题过程，系数化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应注意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344520" y="2119320"/>
            <a:ext cx="864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去分母，去括号，移项，合并同类项，系数化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4"/>
          <p:cNvSpPr/>
          <p:nvPr/>
        </p:nvSpPr>
        <p:spPr>
          <a:xfrm>
            <a:off x="395280" y="47973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要看未知数系数的符号，若未知数的系数是正数，则不等号的方向不变；若未知数系数是负数，则不等号的方向要改变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755640" y="1785960"/>
          <a:ext cx="7561440" cy="468000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7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依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94" name="矩形 5"/>
          <p:cNvSpPr/>
          <p:nvPr/>
        </p:nvSpPr>
        <p:spPr>
          <a:xfrm>
            <a:off x="1763640" y="2565360"/>
            <a:ext cx="237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去分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去括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移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系数化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2"/>
          <p:cNvSpPr/>
          <p:nvPr/>
        </p:nvSpPr>
        <p:spPr>
          <a:xfrm>
            <a:off x="4915080" y="2556000"/>
            <a:ext cx="41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6c0a"/>
                </a:solidFill>
                <a:latin typeface="Calibri"/>
              </a:rPr>
              <a:t>不等式的性质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4915080" y="3348000"/>
            <a:ext cx="41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去括号法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8"/>
          <p:cNvSpPr/>
          <p:nvPr/>
        </p:nvSpPr>
        <p:spPr>
          <a:xfrm>
            <a:off x="4913280" y="41562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6c0a"/>
                </a:solidFill>
                <a:latin typeface="Calibri"/>
              </a:rPr>
              <a:t>不等式的性质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4716360" y="48988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合并同类项法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0"/>
          <p:cNvSpPr/>
          <p:nvPr/>
        </p:nvSpPr>
        <p:spPr>
          <a:xfrm>
            <a:off x="4743360" y="56466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6c0a"/>
                </a:solidFill>
                <a:latin typeface="Calibri"/>
              </a:rPr>
              <a:t>不等式的性质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46c0a"/>
                </a:solidFill>
                <a:latin typeface="Calibri"/>
              </a:rPr>
              <a:t>或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55080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Calibri"/>
              </a:rPr>
              <a:t>问题</a:t>
            </a:r>
            <a:r>
              <a:rPr b="1" lang="en-US" sz="30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　解一元一次不等式每一步变形的依据是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2890080" y="410040"/>
            <a:ext cx="310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解一元一次不等式和解一元一次方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哪些相同和不同之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"/>
          <p:cNvSpPr/>
          <p:nvPr/>
        </p:nvSpPr>
        <p:spPr>
          <a:xfrm>
            <a:off x="324000" y="1628640"/>
            <a:ext cx="8496000" cy="1373760"/>
          </a:xfrm>
          <a:prstGeom prst="rect">
            <a:avLst/>
          </a:prstGeom>
          <a:noFill/>
          <a:ln w="25560">
            <a:solidFill>
              <a:srgbClr val="e46c0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相同之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基本步骤相同：去分母，去括号，移项，合并同类项，系数化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基本思想相同：都是运用化归思想，将一元一次方程或一元一次不等式变形为最简形式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324000" y="4149720"/>
            <a:ext cx="8483400" cy="2226960"/>
          </a:xfrm>
          <a:prstGeom prst="rect">
            <a:avLst/>
          </a:prstGeom>
          <a:noFill/>
          <a:ln w="25560">
            <a:solidFill>
              <a:srgbClr val="e46c0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不同之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解法依据不同：解一元一次不等式的依据是不等式的性质，解一元一次方程的依据是等式的性质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最简形式不同，一元一次不等式的最简形式是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元一次方程的最简形式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8505720" y="1484280"/>
            <a:ext cx="459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5200" indent="-295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一元一次不等式的基本步骤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0" indent="-295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、去分母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每一项都乘以各分母的最小公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5200" indent="-295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、去括号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运用分配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5200" indent="-295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、移项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移项要变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5200" indent="-295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、合并同类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5200" indent="-295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、系数化为</a:t>
            </a:r>
            <a:r>
              <a:rPr b="1" lang="en-US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1——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微软雅黑"/>
              </a:rPr>
              <a:t>两边都除以未知数的系数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  <a:ea typeface="微软雅黑"/>
              </a:rPr>
              <a:t>注意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微软雅黑"/>
              </a:rPr>
              <a:t>未知数系数是负数时不等号方向要改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160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77300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一元一次不等式的概念，掌握一元一次不等式的解法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在依据不等式的性质探究一元一次不等式解法过程中，加深对化归思想的体会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重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元一次不等式的解法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3"/>
          <p:cNvSpPr/>
          <p:nvPr/>
        </p:nvSpPr>
        <p:spPr>
          <a:xfrm>
            <a:off x="46836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察下面的不等式，它们有哪些共同特征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57400" y="2638440"/>
          <a:ext cx="219060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638440"/>
                    <a:ext cx="2190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7280" y="2590920"/>
          <a:ext cx="25095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590920"/>
                    <a:ext cx="2509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13080" y="3213000"/>
                <a:ext cx="17337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63520" y="3481560"/>
                <a:ext cx="1897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矩形 1"/>
          <p:cNvSpPr/>
          <p:nvPr/>
        </p:nvSpPr>
        <p:spPr>
          <a:xfrm>
            <a:off x="539640" y="4508640"/>
            <a:ext cx="7775640" cy="106884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元一次不等式的概念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含有一个未知数，未知数次数是１的不等式，叫做一元一次不等式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031040" y="549360"/>
            <a:ext cx="1806480" cy="5814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 引入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19440"/>
            <a:ext cx="7715160" cy="72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不等式的性质解不等式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21120" y="2617920"/>
                <a:ext cx="2211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6"/>
          <p:cNvSpPr/>
          <p:nvPr/>
        </p:nvSpPr>
        <p:spPr>
          <a:xfrm>
            <a:off x="1778040" y="3661920"/>
            <a:ext cx="497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根据不等式的性质１，不等式的两边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等号的方向不变，所以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700360" y="4941720"/>
          <a:ext cx="32432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941720"/>
                    <a:ext cx="3243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778200" y="5708520"/>
          <a:ext cx="133668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8200" y="5708520"/>
                    <a:ext cx="13366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39640" y="98100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"/>
          <p:cNvSpPr/>
          <p:nvPr/>
        </p:nvSpPr>
        <p:spPr>
          <a:xfrm>
            <a:off x="1771920" y="29242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解一元一次方程的依据是等式的性质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38200" y="3645000"/>
            <a:ext cx="8642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解一元一次方程的一般步骤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去分母，去括号，移项，合并同类项，系数化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330200"/>
            <a:ext cx="80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Times New Roman"/>
              </a:rPr>
              <a:t>问题</a:t>
            </a:r>
            <a:r>
              <a:rPr b="1" lang="en-US" sz="30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990099"/>
                </a:solidFill>
                <a:latin typeface="Times New Roman"/>
              </a:rPr>
              <a:t>　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忆解一元一次方程的依据和一般步骤，对你解一元一次不等式有什么启发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解下列不等式，并在数轴上表示解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06840" y="2090880"/>
          <a:ext cx="338292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2090880"/>
                    <a:ext cx="33829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1754640" y="295128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问题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一元一次不等式的目标是什么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7"/>
          <p:cNvSpPr/>
          <p:nvPr/>
        </p:nvSpPr>
        <p:spPr>
          <a:xfrm>
            <a:off x="676440" y="4443480"/>
            <a:ext cx="81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问题（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类比一元一次方程的步骤，解这个不等式吗？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2219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31640" y="763560"/>
            <a:ext cx="8280720" cy="649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解下列不等式，并在数轴上表示解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728720" y="4797360"/>
            <a:ext cx="471348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535040" y="1476360"/>
          <a:ext cx="325296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5040" y="1476360"/>
                    <a:ext cx="3252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1187280" y="2349360"/>
            <a:ext cx="5256360" cy="2478240"/>
            <a:chOff x="1187280" y="2349360"/>
            <a:chExt cx="5256360" cy="2478240"/>
          </a:xfrm>
        </p:grpSpPr>
        <p:sp>
          <p:nvSpPr>
            <p:cNvPr id="252" name=""/>
            <p:cNvSpPr/>
            <p:nvPr/>
          </p:nvSpPr>
          <p:spPr>
            <a:xfrm>
              <a:off x="1187280" y="2349360"/>
              <a:ext cx="5256360" cy="22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解：去括号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　　　移项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合并同类项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系数化为１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4233600" y="2446200"/>
            <a:ext cx="1546200" cy="50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233600" y="2446200"/>
                      <a:ext cx="15462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4249440" y="2954160"/>
            <a:ext cx="1546200" cy="500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49440" y="2954160"/>
                      <a:ext cx="15462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4241520" y="3474720"/>
            <a:ext cx="978120" cy="500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41520" y="3474720"/>
                      <a:ext cx="978120" cy="5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4284360" y="3857400"/>
            <a:ext cx="914400" cy="970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84360" y="3857400"/>
                      <a:ext cx="914400" cy="9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1" name="" descr=""/>
          <p:cNvPicPr/>
          <p:nvPr/>
        </p:nvPicPr>
        <p:blipFill>
          <a:blip r:embed="rId12"/>
          <a:stretch/>
        </p:blipFill>
        <p:spPr>
          <a:xfrm>
            <a:off x="34920" y="-23760"/>
            <a:ext cx="22194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31640" y="691920"/>
            <a:ext cx="8280720" cy="6490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下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，并在数轴上表示解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24000" y="1305000"/>
          <a:ext cx="31687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05000"/>
                    <a:ext cx="31687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5280" y="2349360"/>
            <a:ext cx="8209080" cy="2013120"/>
            <a:chOff x="395280" y="2349360"/>
            <a:chExt cx="8209080" cy="2013120"/>
          </a:xfrm>
        </p:grpSpPr>
        <p:sp>
          <p:nvSpPr>
            <p:cNvPr id="267" name=""/>
            <p:cNvSpPr/>
            <p:nvPr/>
          </p:nvSpPr>
          <p:spPr>
            <a:xfrm>
              <a:off x="395280" y="2349360"/>
              <a:ext cx="820908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问题（</a:t>
              </a:r>
              <a:r>
                <a:rPr b="1" lang="en-US" sz="2800" spc="-1" strike="noStrike">
                  <a:solidFill>
                    <a:srgbClr val="99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对比不等式　　　　　　　与　　　　　　的两边，它们在形式上有什么不同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68" name=""/>
            <p:cNvGraphicFramePr/>
            <p:nvPr/>
          </p:nvGraphicFramePr>
          <p:xfrm>
            <a:off x="2482920" y="2912760"/>
            <a:ext cx="2135160" cy="94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2920" y="2912760"/>
                      <a:ext cx="213516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5205240" y="3200400"/>
            <a:ext cx="2087640" cy="564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05240" y="3200400"/>
                      <a:ext cx="2087640" cy="56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2" name=""/>
          <p:cNvGrpSpPr/>
          <p:nvPr/>
        </p:nvGrpSpPr>
        <p:grpSpPr>
          <a:xfrm>
            <a:off x="395280" y="4502160"/>
            <a:ext cx="8209080" cy="1590840"/>
            <a:chOff x="395280" y="4502160"/>
            <a:chExt cx="8209080" cy="1590840"/>
          </a:xfrm>
        </p:grpSpPr>
        <p:sp>
          <p:nvSpPr>
            <p:cNvPr id="273" name=""/>
            <p:cNvSpPr/>
            <p:nvPr/>
          </p:nvSpPr>
          <p:spPr>
            <a:xfrm>
              <a:off x="395280" y="4502160"/>
              <a:ext cx="8209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问题（</a:t>
              </a:r>
              <a:r>
                <a:rPr b="1" lang="en-US" sz="2800" spc="-1" strike="noStrike">
                  <a:solidFill>
                    <a:srgbClr val="99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怎样将不等式　　　　　　变形，使变形后的不等式不含分母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627280" y="5143680"/>
            <a:ext cx="2135160" cy="94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27280" y="5143680"/>
                      <a:ext cx="213516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34920" y="442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611280" y="69228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Calibri"/>
              </a:rPr>
              <a:t>例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1</a:t>
            </a:r>
            <a:r>
              <a:rPr b="1" lang="zh-CN" sz="3000" spc="-1" strike="noStrike">
                <a:solidFill>
                  <a:srgbClr val="990099"/>
                </a:solidFill>
                <a:latin typeface="Calibri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　解下列不等式，并在数轴上表示解集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1403280" y="5297400"/>
            <a:ext cx="4392720" cy="1554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124000" y="1305000"/>
            <a:ext cx="3303720" cy="104436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403280" y="2421000"/>
            <a:ext cx="6116760" cy="2808360"/>
            <a:chOff x="1403280" y="2421000"/>
            <a:chExt cx="6116760" cy="2808360"/>
          </a:xfrm>
        </p:grpSpPr>
        <p:sp>
          <p:nvSpPr>
            <p:cNvPr id="281" name=""/>
            <p:cNvSpPr/>
            <p:nvPr/>
          </p:nvSpPr>
          <p:spPr>
            <a:xfrm>
              <a:off x="1403280" y="2421000"/>
              <a:ext cx="5256360" cy="27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解：去分母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　　去括号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　　　移项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合并同类项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系数化为１，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4201920" y="2495520"/>
              <a:ext cx="331812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4132080" y="3062520"/>
              <a:ext cx="240840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5"/>
            <a:stretch/>
          </p:blipFill>
          <p:spPr>
            <a:xfrm>
              <a:off x="4176720" y="3645000"/>
              <a:ext cx="260964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"/>
            <a:stretch/>
          </p:blipFill>
          <p:spPr>
            <a:xfrm>
              <a:off x="4189320" y="4148280"/>
              <a:ext cx="1513080" cy="5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>
              <a:off x="4181400" y="4676760"/>
              <a:ext cx="1114560" cy="5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4920" y="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2:37:06Z</dcterms:created>
  <dc:creator>人民教育电子音像出版社</dc:creator>
  <dc:description/>
  <dc:language>en-US</dc:language>
  <cp:lastModifiedBy>User</cp:lastModifiedBy>
  <dcterms:modified xsi:type="dcterms:W3CDTF">2014-12-05T10:18:00Z</dcterms:modified>
  <cp:revision>74</cp:revision>
  <dc:subject/>
  <dc:title>义务教育教科书 数学 七年级下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